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9.gif" ContentType="image/gif"/>
  <Override PartName="/ppt/media/image39.png" ContentType="image/png"/>
  <Override PartName="/ppt/media/image9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60D-A83E-4F1D-ACB2-EEB742AC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CFF-4576-4570-A75D-5848F728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54E-C9AC-44E8-9CAC-3B758AFA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FDB-E681-48B0-80E7-1065B541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758-8960-4241-BE24-FED29D52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C4F-5FBD-4C26-8B5F-1AFE507B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9BC-991A-4404-BDA9-ACBC60F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4208-8DBB-4142-8202-80F3BF7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E4E-9BBF-44F0-BD91-816AB487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10D-895F-470D-9388-5D642216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61FE-F987-4C18-8FE8-34488A69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AAE-2871-41A9-9AB5-EA68FCC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4ECC-F85D-4E5D-94EF-F474F07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8E8-D1BD-40CD-845F-5FD4667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6D8E-C317-44F8-B604-BF5B0D2F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B94A-445A-40B0-992F-55CABE05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6CB3-F80D-432F-B00F-65807F5A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59A0-924F-4DCD-98C0-FEEDF2A1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75A9-466B-492C-9EEB-9D7D59C0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E4EB5-A731-4ED4-9F9D-295D8917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EAC4-1239-414D-B4E7-DE89E003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B442-2ECD-422C-9D86-7ECB56C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6A1-B9F6-4670-965F-7CFE3260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073A-1AF7-4B3A-A311-2E3C1805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1F8A3-0C1D-4449-8D28-5225724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06A7-EA9F-4D92-81B5-1BF120C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3683-AFE2-488E-8B4D-60ADD82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AA51-B128-4350-BB96-78280B0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8514-C97B-4055-AC42-DEC5343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21ED-6A69-4E2A-83CC-6C160CFF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7657-BFB4-4450-8AFA-D7E63A12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22024-E4CA-4E85-958A-D3DD731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22A7-5995-4C46-BEAF-B92D6B3E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E9B-2B27-4F1F-BD82-CC404282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5849-D2C7-453A-85F9-973C5C1A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931F-7F31-49B3-BED9-A2324A46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BE08A-16E8-490E-B208-C9B71D5D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9A943-932F-4D96-B3A9-113DB38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93EC-437B-4C96-A62C-10B5422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3CB0-176C-4453-A7E4-F410E75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47AD-B4AF-4479-B341-23A7240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90BC-E9F6-4A9B-BD80-8D832553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7DC19-D8F5-4ADF-81BB-C3E49D6F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3610-06FF-4E46-8CF5-A2D805AD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D61-1033-4205-B99C-E295CA8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AE0E-CAE0-4FD1-8081-448A0A7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2154-5FF1-496A-98EC-BB4353C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33A2-9D3C-4847-913E-8A1F4EFB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B89E-265B-41D7-887F-9B900E50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3788-AF36-4AA6-944C-F0EDAD8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90A0-338E-4898-8A18-E2D93691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EEB9-E0D5-4A8C-A76F-CA1607D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05D0-5811-455D-8540-3C50B89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A82E-DB84-469B-B25F-1E2621B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E7DC-B477-4EBD-822D-A1590B6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A2D-D4AB-48E9-B560-229013D7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EE90-5F5A-4E75-B8CF-CA946E9D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79CF-E95B-4F94-90CB-F2B8A6E4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CC499-66E0-410E-918A-FC33C600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6AC73-2563-4AB3-90DD-22E8F61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6CF6D-6EB6-49D7-82B3-8F32386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F2DCA-226D-462B-B40D-ED86E79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A600-0CDA-44DF-A441-D6576163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A4A3-09E4-426A-84A5-04E21FD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A162-D41A-4964-A5E2-0C0C355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B634-3F13-4787-92E8-45993D7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92F-8630-4A54-9A44-47BE483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A5C4-67AF-44FC-8D80-C89A3087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6C27C-3395-49C9-848E-F68D6666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DE7A-7B59-46E3-9F07-F5577AD8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ECD5D-07C9-4843-A2E2-DC342BC1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44F2A-9F35-46CD-BA79-0F4EA61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2CDB9-4DC5-4AF7-98D6-05769717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D883-B720-4A54-B973-E51249E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E7D7-C916-4C3C-98B4-EA0AA8F9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7C40E-6867-461B-B983-C387D48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02F2-ADB9-4184-81E7-59D896C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4AB-6794-44C3-9943-E85303C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8002-C02A-4DCD-B5BF-29E10AF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C4E8-4931-4A4B-9BD8-2A4AFF4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665EA-5D13-4663-B781-D0C0ABC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46B5-524D-4E3A-BB35-C38A7EA1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ECDA0-2B66-44D0-92FC-1290808B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1F5B8-FD25-4302-8E46-9BB806F8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0DD04-B70D-4DB0-9E98-98D09DCB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EA95C-AE0F-4D74-A228-A5C4515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A339-EFC6-494D-9F40-8CB03CDE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FFBB-A916-4D2C-8523-34E7BB9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DCD-54E6-48C6-A204-51E8566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5082F-BE68-484B-864E-F2909A97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8A38-E97D-4134-A296-7A3DCE97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8DE7C-8C2B-45E0-8050-4CF41ED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7189-13CD-44FE-9E97-C4671D3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2F902-FCE3-4FD7-9BE7-E9DD623E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5392F-8680-4C7B-8646-B496AEAB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7423-5995-4A44-9343-1FC119A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EA5-8DB2-4301-A53F-EA855944330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AB1-37BC-4C80-9822-E0528538CB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ED9-FC80-4311-A549-B57527C4AE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822-2ADC-4599-B450-27ED63BC40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BAC-DC2D-44EB-AFF0-0F9EC68F29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4A65-917A-43DC-99A5-55B9563B5F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D0FB-D61E-45DE-B85E-DC03BC8BDA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EC9-985C-4C13-A49D-67CFB09A896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2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-6480" y="304920"/>
            <a:ext cx="8016840" cy="315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2240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2286000" cy="2313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6064200" y="2971800"/>
            <a:ext cx="3079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3124080" y="1238400"/>
            <a:ext cx="3581640" cy="2190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3124080" y="4648320"/>
            <a:ext cx="25909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5334120" y="426960"/>
            <a:ext cx="2514600" cy="20494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019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349880" y="228600"/>
            <a:ext cx="2133360" cy="2425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5715000" y="2895480"/>
            <a:ext cx="2205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4903920" y="130320"/>
            <a:ext cx="2205000" cy="248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77160" y="2971800"/>
            <a:ext cx="21668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166840" cy="2363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791320" y="3254400"/>
            <a:ext cx="20955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2492640" cy="2514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6172200" y="3065400"/>
            <a:ext cx="25639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2590920" cy="226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User\Local Settings\Temporary Internet Files\Content.IE5\I3S5JU43\MC900022705[1].wmf"/>
          <p:cNvPicPr/>
          <p:nvPr/>
        </p:nvPicPr>
        <p:blipFill>
          <a:blip r:embed="rId3"/>
          <a:stretch/>
        </p:blipFill>
        <p:spPr>
          <a:xfrm>
            <a:off x="6705720" y="3429000"/>
            <a:ext cx="1863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978520" y="2971800"/>
            <a:ext cx="2327400" cy="2179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cuments and Settings\User\Local Settings\Temporary Internet Files\Content.IE5\I3S5JU43\MC900022705[1].wmf"/>
          <p:cNvPicPr/>
          <p:nvPr/>
        </p:nvPicPr>
        <p:blipFill>
          <a:blip r:embed="rId3"/>
          <a:stretch/>
        </p:blipFill>
        <p:spPr>
          <a:xfrm>
            <a:off x="6210360" y="730080"/>
            <a:ext cx="1863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4924440" y="162000"/>
            <a:ext cx="2325600" cy="2181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3"/>
          <a:stretch/>
        </p:blipFill>
        <p:spPr>
          <a:xfrm>
            <a:off x="4751280" y="2819520"/>
            <a:ext cx="1324080" cy="2571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4"/>
          <a:stretch/>
        </p:blipFill>
        <p:spPr>
          <a:xfrm>
            <a:off x="6172200" y="3038400"/>
            <a:ext cx="200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6480" y="585720"/>
            <a:ext cx="8016840" cy="3595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34040" y="228600"/>
            <a:ext cx="2224080" cy="1897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"/>
          <p:cNvPicPr/>
          <p:nvPr/>
        </p:nvPicPr>
        <p:blipFill>
          <a:blip r:embed="rId3"/>
          <a:stretch/>
        </p:blipFill>
        <p:spPr>
          <a:xfrm>
            <a:off x="5791320" y="3124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1323720" cy="2571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7142040" y="905040"/>
            <a:ext cx="2001960" cy="2133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4"/>
          <a:stretch/>
        </p:blipFill>
        <p:spPr>
          <a:xfrm>
            <a:off x="5716440" y="4191120"/>
            <a:ext cx="225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2876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5716440" y="533520"/>
            <a:ext cx="225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http://4.bp.blogspot.com/-Q06yizijw0w/Tge6QhfGXuI/AAAAAAAABB0/6Mg5C1Or0FE/s1600/Muchas+Gracias+Gif+Animado-gracias.gif"/>
          <p:cNvPicPr/>
          <p:nvPr/>
        </p:nvPicPr>
        <p:blipFill>
          <a:blip r:embed="rId1"/>
          <a:stretch/>
        </p:blipFill>
        <p:spPr>
          <a:xfrm>
            <a:off x="2133720" y="609480"/>
            <a:ext cx="5243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800600" y="398520"/>
            <a:ext cx="2266920" cy="2038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443560" y="3200400"/>
            <a:ext cx="2028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4452840" y="519120"/>
            <a:ext cx="2028960" cy="1704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1743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5288040" y="434880"/>
            <a:ext cx="1743120" cy="199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5638680" y="3276720"/>
            <a:ext cx="20955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5234040" y="609480"/>
            <a:ext cx="2095560" cy="12477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5313240" y="3200400"/>
            <a:ext cx="1762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-231840" y="450720"/>
            <a:ext cx="8010720" cy="4164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4865760" y="228600"/>
            <a:ext cx="1762200" cy="193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209680" cy="1924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3"/>
          <a:stretch/>
        </p:blipFill>
        <p:spPr>
          <a:xfrm>
            <a:off x="5791320" y="318600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-231840" y="731880"/>
            <a:ext cx="8010720" cy="3595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4876920" y="34308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3"/>
          <a:stretch/>
        </p:blipFill>
        <p:spPr>
          <a:xfrm>
            <a:off x="6629400" y="3124080"/>
            <a:ext cx="20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03:45:35Z</dcterms:created>
  <dc:creator>System User</dc:creator>
  <dc:description/>
  <dc:language>en-US</dc:language>
  <cp:lastModifiedBy>System User</cp:lastModifiedBy>
  <dcterms:modified xsi:type="dcterms:W3CDTF">2012-02-06T20:32:31Z</dcterms:modified>
  <cp:revision>9</cp:revision>
  <dc:subject/>
  <dc:title>  Yo tengo la regla.     ¿Quién tiene el creyón?   </dc:title>
</cp:coreProperties>
</file>